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C576-275B-4690-93DC-13E99E3BFEE6}"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B112-2F40-478C-A44C-98DF50BE3D7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4D65-BE5A-4B16-AC57-CF2655C351C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Working with your archive organization</a:t>
            </a:r>
            <a:br>
              <a:rPr sz="4800"/>
            </a:br>
            <a:r>
              <a:rPr b="0" lang="en-US" sz="4800" spc="-1" strike="noStrike">
                <a:solidFill>
                  <a:srgbClr val="000000"/>
                </a:solidFill>
                <a:latin typeface="Helvetica Neue Light"/>
              </a:rPr>
              <a:t>Broadening your user community</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4280" y="4952880"/>
            <a:ext cx="995688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R. Downs, Ph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ocioeconomic Data and Applications Center (SEDAC)</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enter for International Earth Science Information Network (CIESI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lumbia Universit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4" name="Picture 8" descr=""/>
          <p:cNvPicPr/>
          <p:nvPr/>
        </p:nvPicPr>
        <p:blipFill>
          <a:blip r:embed="rId3"/>
          <a:stretch/>
        </p:blipFill>
        <p:spPr>
          <a:xfrm>
            <a:off x="4154400" y="7658280"/>
            <a:ext cx="2500560" cy="1752480"/>
          </a:xfrm>
          <a:prstGeom prst="rect">
            <a:avLst/>
          </a:prstGeom>
          <a:ln w="0">
            <a:noFill/>
          </a:ln>
        </p:spPr>
      </p:pic>
      <p:pic>
        <p:nvPicPr>
          <p:cNvPr id="745" name="Picture 6" descr=""/>
          <p:cNvPicPr/>
          <p:nvPr/>
        </p:nvPicPr>
        <p:blipFill>
          <a:blip r:embed="rId4"/>
          <a:stretch/>
        </p:blipFill>
        <p:spPr>
          <a:xfrm>
            <a:off x="6692760" y="7924680"/>
            <a:ext cx="1125720" cy="1204920"/>
          </a:xfrm>
          <a:prstGeom prst="rect">
            <a:avLst/>
          </a:prstGeom>
          <a:ln w="0">
            <a:noFill/>
          </a:ln>
        </p:spPr>
      </p:pic>
      <p:pic>
        <p:nvPicPr>
          <p:cNvPr id="746" name="Picture 4" descr=""/>
          <p:cNvPicPr/>
          <p:nvPr/>
        </p:nvPicPr>
        <p:blipFill>
          <a:blip r:embed="rId5"/>
          <a:stretch/>
        </p:blipFill>
        <p:spPr>
          <a:xfrm>
            <a:off x="11607840" y="9239400"/>
            <a:ext cx="1003320" cy="353880"/>
          </a:xfrm>
          <a:prstGeom prst="rect">
            <a:avLst/>
          </a:prstGeom>
          <a:ln w="0">
            <a:noFill/>
          </a:ln>
        </p:spPr>
      </p:pic>
      <p:sp>
        <p:nvSpPr>
          <p:cNvPr id="747" name="TextBox 9"/>
          <p:cNvSpPr/>
          <p:nvPr/>
        </p:nvSpPr>
        <p:spPr>
          <a:xfrm>
            <a:off x="8601480" y="9321840"/>
            <a:ext cx="2547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Copyright 2012 Robert R. Downs.</a:t>
            </a:r>
            <a:endParaRPr b="0" lang="en-US" sz="12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9" name=""/>
          <p:cNvSpPr txBox="1"/>
          <p:nvPr/>
        </p:nvSpPr>
        <p:spPr>
          <a:xfrm>
            <a:off x="571320" y="2133360"/>
            <a:ext cx="11861640" cy="708660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r community that could use particular data products or services might not be aware of your data product or servi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individuals might not be aware of the potential for using your data to address their particular need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thers might be aware of a data product or service and may believe that it could serve their needs, but they might not have the capabilities or tools to use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fforts to broaden your user community could result in increased awareness of the data and its potential uses by new communities or by those who have obtained new capabilities or tools for using the data product or service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roadening your user community could increase the use of the data product or service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fforts to broaden your user community could improve discovery and awareness of the data and foster use of the data by new and future communities of user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mprovements in tools and capabilities to enable new users and uses of your data could enhance the accessibility, understandability, and usability of the data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roadening the user community for data could increase recognition of the data as a valuable resource and result in the availability of additional resources for managing and disseminating that data</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for broadening your user community</a:t>
            </a:r>
            <a:endParaRPr b="0" lang="en-US" sz="4400" spc="-1" strike="noStrike">
              <a:solidFill>
                <a:srgbClr val="000000"/>
              </a:solidFill>
              <a:latin typeface="Helvetica Neue Light"/>
            </a:endParaRPr>
          </a:p>
        </p:txBody>
      </p:sp>
      <p:sp>
        <p:nvSpPr>
          <p:cNvPr id="753" name=""/>
          <p:cNvSpPr txBox="1"/>
          <p:nvPr/>
        </p:nvSpPr>
        <p:spPr>
          <a:xfrm>
            <a:off x="571320" y="2209680"/>
            <a:ext cx="11861640" cy="693432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rease awareness of data product or service</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dvertise your data and publish articles about its use</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mprove discoverability of your data through inclusion in data catalog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mote new and novel uses of your data</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scribe new uses of the data and feature articles about their use</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mprove capabilities for using your data</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guidance, instruction, and documentation on using the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mprove rights for using the data and remove any restrictions on use</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ffer new tools and services for using your data</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 easy-to-use tools that enable beginners to use your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reate tools and services that foster analysis of your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vert data to formats that facilitate use by common tool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able integration of your data with other data products and services</a:t>
            </a: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evelop plan to broaden your user community</a:t>
            </a:r>
            <a:endParaRPr b="0" lang="en-US" sz="4400" spc="-1" strike="noStrike">
              <a:solidFill>
                <a:srgbClr val="000000"/>
              </a:solidFill>
              <a:latin typeface="Helvetica Neue Light"/>
            </a:endParaRPr>
          </a:p>
        </p:txBody>
      </p:sp>
      <p:sp>
        <p:nvSpPr>
          <p:cNvPr id="755" name=""/>
          <p:cNvSpPr txBox="1"/>
          <p:nvPr/>
        </p:nvSpPr>
        <p:spPr>
          <a:xfrm>
            <a:off x="571320" y="2133360"/>
            <a:ext cx="11861640" cy="708660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termine audience and track data usage and impact</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Journal articles, books, reports, gray literature, popular media</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mpare data uses with expectations for use of the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Research, education, policy-making, planning, navigating</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mpare data users served with expectation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Disciplines and sub-disciplines of journals where data are cited</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Communities (scientists, educators, students, decision-maker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National and international (languages)</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ntify gaps as opportunities for expansion</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Segments of community not aware of the data or its potential to meet their need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Tools or services needed to enable segments of community to use the data</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 plan to address opportunities to broaden your user community</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Promotional activities or event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Discovery opportunities (additional catalogs, search engine optimization)</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New data products (subsets, maps, integrated data, translations, lesson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New data services (simple analytical tools, advanced tools, visualization capabilitie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Identify criteria to measure success for each element of plan</a:t>
            </a:r>
            <a:endParaRPr b="0" lang="en-US" sz="22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ntinually broaden your user community</a:t>
            </a:r>
            <a:endParaRPr b="0" lang="en-US" sz="4400" spc="-1" strike="noStrike">
              <a:solidFill>
                <a:srgbClr val="000000"/>
              </a:solidFill>
              <a:latin typeface="Helvetica Neue Light"/>
            </a:endParaRPr>
          </a:p>
        </p:txBody>
      </p:sp>
      <p:sp>
        <p:nvSpPr>
          <p:cNvPr id="757" name=""/>
          <p:cNvSpPr txBox="1"/>
          <p:nvPr/>
        </p:nvSpPr>
        <p:spPr>
          <a:xfrm>
            <a:off x="571680" y="2324160"/>
            <a:ext cx="1243296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Execute plan for expanding user community.</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ompare results of each expansion activity with success criteria.</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orrect or improve unsuccessful expansion activities.</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Track data usage and impact over time to identify improvement.</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Perform gap analysis to identify opportunities for expansion.</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Develop plans for continued expansion based on gap analysis.</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Periodically repeat user community expansion process.</a:t>
            </a:r>
            <a:endParaRPr b="0" lang="en-US" sz="32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Chen, R. S. and Downs, R. R. 2010. Evaluating the Use and Impact of Scientific Data. Assessing The Usage and Value of Scholarly and Scientific Output: An Overview of Traditional and Emerging Metrics. Available online at http://info.nfais.org/info/ChenDownsNov10.pdf</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owns, R. R. 2011. Working with Your Archive Organization. Data Management 101 for the Earth Scientist. American Geophysical Union Workshop. Available online at http://wiki.esipfed.org/index.php/2011AGUworkshop</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owns, R. R., Schumacher, J., Chen, R. S., Lenhardt, W. C. (2008) Assessing the Scientific Benefits of Interdisciplinary Use of Social Science Data through Citation Analysis. International Association for Social Science Information Services &amp; Technology (IASSIST) 2008 Conference, Stanford University, Palo Alto, CA.  Available online at http://iassistdata.org/downloads/2008/a2_downs-etal.pdf</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racking data usa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ermining your aud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Metadata for discover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Access mechanism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Rights</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Robert R Downs</dc:creator>
  <dc:description/>
  <dc:language>en-US</dc:language>
  <cp:lastModifiedBy>Robert R Downs</cp:lastModifiedBy>
  <dcterms:modified xsi:type="dcterms:W3CDTF">2012-03-06T17:21:15Z</dcterms:modified>
  <cp:revision>85</cp:revision>
  <dc:subject/>
  <dc:title>ESIP Federation 101</dc:title>
</cp:coreProperties>
</file>